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933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927240" y="0"/>
            <a:ext cx="3004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881856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92724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10F1-FA7F-41A8-B98C-589A1B990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B5BA-E39E-41A7-99B1-87C3F7B6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9E17-2BB4-493E-97B4-52FEC12F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F03-B488-4E3D-9D93-519F08624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00B-BC29-45D0-90B5-39742F84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60D3-3498-4E6A-A61E-110FAE13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E4F2-4616-4E38-BA8A-AEDF81EB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8F24-D617-4E4E-B7ED-39F4CB7A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FD13-1805-499C-9D95-F4832459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7BDA-E8C4-422C-AB3B-EFA814FCF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Header Placeholder 3"/>
          <p:cNvSpPr/>
          <p:nvPr/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als of Research and Knowledge (ARK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Date Placeholder 4"/>
          <p:cNvSpPr/>
          <p:nvPr/>
        </p:nvSpPr>
        <p:spPr>
          <a:xfrm>
            <a:off x="3927600" y="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/201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93F-71E2-4E26-85F1-B895F06E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26B8-4BD1-45F8-9AEA-6186C751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5D03-2C25-4DA8-BECC-0ECB6F753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9280-D504-4133-B9D5-0113E59EF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4AE-2D5B-4F15-961C-06C2EEDF5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19D-BBD2-48F0-AC1F-E0BB6557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52E-711A-4DEA-B8DF-785EF92AB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27600" y="8818560"/>
            <a:ext cx="3004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D6A9-4148-456B-A3C0-860C0CDB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6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93720" y="4410000"/>
            <a:ext cx="55468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E2A-9C7C-4B50-A3B0-0C0E5B0D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860-582F-4DE2-9C54-08E527EE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BEDF7-25B8-405F-AEBA-74FE9E02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B7DC9-6273-4F39-8D90-CEF4E76D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7C461-0E05-4A32-BF60-7D42F9D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99F8A-9BD6-4B98-836C-7DEEA3C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4F2B-A924-4F0F-BD40-0034FF7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263BD-6DAC-4C2D-ACD0-B5C845D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DEA4-A6FD-4FAC-94C3-78A65316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E07AD-19C7-4F46-91E0-0BF6B990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D0A40-0CD9-4951-854C-6FE9ABD0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843A2-0102-403E-A945-A6FBE9F0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517-8C38-4B30-862D-DD37526D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125AD-BB6D-4428-A00F-B0CD69FA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C278-F9F0-4522-9A92-9CA8CC5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804C5-EBCF-4DA5-BD27-A421700F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BB9D2-0059-4D91-9B83-CD6040B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3C646-E20B-4C64-B7D3-E8007EB4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241F-D70A-444D-A7DC-25F17F6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CFFBA-394C-4DEC-9632-B8F32D1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0A617-F073-4231-9DD7-25CA0EE3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B4133-2C5A-4FD8-AA74-4C6A552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0ACC8-C98D-4009-A32B-44C3D8C7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F2-6920-4438-AE70-DCE3C525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A22E1-74D1-4D53-9C71-6AE3821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7E2EE-BD01-43DD-AAED-7AC190C2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72B84-6609-47B2-AD62-E4DC12A4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B6601-DD62-4569-910E-1443C666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10527-995A-42A3-A1B4-8E7928A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2C887-C083-4C60-BFF6-C73F8E5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8568-4AC4-48A5-A668-78381B3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87AA-2D98-449C-AB3C-3A9EEA6B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C93E8-FECD-41EE-A83F-EFEFD24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2B4B-AE6C-437C-A7EB-1ADFD4A7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4943-420A-44DC-9F7B-450BDE5C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D5EA4-757E-49CF-B42E-B87ACFF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E3F25-0F7D-4A3D-BDB5-D44A8E42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D04D-A22D-4B01-B25E-5BF121C7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AE32-7670-4B36-A855-AEF18CC4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83A01-BDF2-4CED-A425-BA41A63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2A6B6-8440-46A5-873E-94367764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7A430-C927-4536-A650-900A93F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F4712-CE93-4972-9192-60EDCD78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7147A-2402-48B0-B9DF-118D40E7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D0365-A182-4634-993E-67B1505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C9D-C0FA-4E9B-BEEC-C9FBD78D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2D16B-28F7-472A-AA98-A8B3B70C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26BA2-0400-4F1C-8656-E574B53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55C16-FEB7-4CA5-9BDA-13030F4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A14E9-8E44-4452-9F54-1C9685BC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E6BC6-FA50-4946-B225-C72EC1C5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694AFB-582C-4AB9-849D-F3B1AED4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0A07F-BE88-412B-838F-9420673E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9B1BB-AC0B-4053-82C8-61AE2400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75DEC-4BB4-418A-A149-4978C60C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3B846-A1E4-4967-84F2-4DA539DD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DF7A-3834-4AD4-99D1-73EB701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3806A-DD6D-4620-9CDA-BE7B21BB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1018D-E9F7-4A9C-B370-DBC7558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EB5FE-E055-4082-9D90-C8287A6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E6139-9296-46D0-80DE-606A0F6E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4CA79-4006-4A29-9234-09DEB3A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22C20-130A-4A95-8BEA-FF96A775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C3A02-88F5-4F4B-A2A0-CEF1C27A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09627-BB3C-4D1A-BF87-52BFE5A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520D8-1DD1-48D6-93CE-9FD72F9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8ABEF-1DDE-44A0-9ACC-B45A383C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C93A-69BC-40C0-9355-E50B01B3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A597E-342C-4819-9501-042789EF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007EB-DF7C-40F6-8C7C-F5929E07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3C08E-0EF5-47A7-B1C5-F13E4F2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8FAF5-B527-43A1-87E1-A2C95FE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CE031-78EF-4C08-A877-64ACC60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318E6-D521-4625-855C-53F198C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A8108-B336-423C-98CA-FE54E85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48DE7-1B81-4281-B0AF-80357452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A3981-A71B-4179-AF38-D6CC65C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A2A4-B6DB-4FC3-ACB1-9F7EF88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DCB-E870-44EA-B65C-6ACF08A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A76E-40B0-4FB6-B6A4-63DD1C6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7EE-3C83-4F92-AB38-099636B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9D38-A1E1-4F21-9017-21C3522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6CB2-853A-4CC9-9A60-1CDF25E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F3B-D53C-4F3C-BBD3-21C1B54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6DCE-5428-4031-93F9-0A5A931B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044A-64DC-4A54-BAB1-F2854474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64AA-B4C4-4D34-9F41-A3408CBA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1325-780F-47EF-95DB-7B4355A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7940-5C17-4421-8F9A-B4027D15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D96D-D1B3-488C-ACBF-EC09F89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633E-6C9C-4241-BA31-9531AF9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EC3-1836-40DE-9345-8870886B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3650-9569-446C-9CA8-3CA8EAF0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4DC9-E848-4CB6-A9A8-252D32A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76F0-9E7D-4037-9903-437F44F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50D9-A0AC-4CEC-8AB2-E6AD160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08C9-59CB-4073-A048-54F968F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7AEF-D49F-4D3B-97AC-05E40F34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FC1D-A5C4-427C-AFDD-014EFEB1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8CE5-7178-4758-8049-5BBE8C78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8DE6-B1AF-45CF-BE2B-F1AEE3E0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2254-44FA-45BD-B2A8-10DCE97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03F-4836-4160-A59C-0F1A14AC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A309-DEF5-4E2A-B213-EF4C8308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A012-AFEE-435D-B3F4-3B8EC9B8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0D03-E82F-4C29-A3AE-EA31B01B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4BA8-0A6E-4EB5-9794-24495FE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1AD2-50D6-45C7-ABEB-46A8EAA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88F7-1C23-4F3D-9FAA-64694EF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2C16-688C-422A-9A3C-D70D1DC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3948-346C-4765-9158-3DFB5868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8477-4491-4134-ABC3-60AE9217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02B3-3D45-4B5B-9D56-2A58BBBD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C01-0D35-4B0E-BB1A-D3E03A9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E7E1-430E-40FC-85A0-93CBE9B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EE56C-7BDB-4206-A41C-D58E785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020D-82C8-4405-8C15-59954E2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180E-7E58-42FC-9F3A-90389505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2272-A950-4953-9679-13B3D8E4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1565-0DEC-41C1-9ACF-58D452E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B80A-F047-47D0-B778-0AAF42B8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F2AC-AC05-4D9A-8C9F-2AABB4F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0AE1-148F-466E-A523-CBA9BE9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5864D-7B56-4BF1-A2A6-E2391A9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2BF-CB3B-4178-8EBD-D4F28A46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8CCD5-042C-487E-AA2B-4AA53523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4B9D-6FDE-48F1-8E41-FD305C20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E01B-A87D-4371-B519-3BD5DABF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0131-DDE3-4690-B9A6-9D5F4866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F973-01C0-44C4-8039-7831A45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61810-D13C-4820-8695-F0C18791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858C-37C1-4C08-9A6F-367AD37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D53F-DA18-4104-904F-EC80438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2BE5-5DDF-4E35-A233-E5F0DC2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92713-9FDB-4DC4-B9AC-60CDFF7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762-282A-4353-A5B5-20C1048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7281-4E86-4144-A8F3-EC2BFFE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ACB3-2D5F-40CC-BBB7-DC4045CB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8CB0-BDBF-49DB-AE7D-09475DC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BCDE-5467-49D3-9619-718AEEA8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DF93-09A8-4CB2-B5E9-1F20A41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59AB7-F535-4A8B-986A-8E19632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7C725-D3AF-4D2E-B92D-E4838B43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F768-38E0-47A1-A7BC-5062865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9C96-AB91-4F55-85BF-E96528A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382D-12CE-480D-9913-C1F1ECB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D29-421B-465C-AEF1-18F59EB4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79B9-EB5F-4B27-8DF8-4737C9B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FDA8-854D-472C-854B-8B613C5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BB56-2563-48C6-9B77-0730B15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6127-980B-4321-8B3E-2E68AAA0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38F4D-4E43-4307-A1A5-7BA95743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8396-C198-404F-9B7D-5D6E4067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21BF3-E592-4B60-89FE-B8D96B56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6372A-F727-462E-95A6-8E1A887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DEE1-6063-4B14-8155-A8436F4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62F68-FF03-4502-9765-5040903D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C3F-F301-4F2C-AFC8-EF1F4DF8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AD0B-B9BA-4218-9772-CBCEA37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E8F5-E3EC-487F-B55D-341F5515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25661-B924-495A-9ED4-CA03BC8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07FD7-E947-40D2-BC61-8C9E8D2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8D750-2CD2-42A5-A442-8B00145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B984-DEF3-42FC-A548-5DDAA001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F2E6-688F-4AEA-A976-C6180482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72E94-9503-4162-83FB-5B870A2B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776D-E438-4027-B57E-07547DA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CB2D9-3E10-4E5F-86C2-E8E61C99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F67-A40F-4037-ACE4-3E62BF9E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CA1-BDB4-4020-98E8-403C7804DF3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B25-D6D1-495F-922F-06841BDEEBA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688-66B1-4568-868C-536C9BC3844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0B19-C664-4EEE-AF05-4FD354A2086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E4D-9BEB-46E5-936C-8BCD17CF545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195-8C62-45A1-B94D-6B7E5AD9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795C-B265-41A2-A3BA-E34DA3320C9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2D8-9CB4-4BEB-8B49-1A91A31C8FF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9F7-F281-45EE-808D-C33732D4234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13DD-1E5A-4C33-B8DE-569CE591D67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A0B7-FBD6-4673-BCE5-2A7662E18A0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CAF-9337-4DD6-89F8-69587BAF08C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D58-F9E7-4D20-B386-05E0AAF335C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609480" y="198108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e1dd8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0" y="380880"/>
            <a:ext cx="8763120" cy="1980720"/>
            <a:chOff x="0" y="380880"/>
            <a:chExt cx="8763120" cy="1980720"/>
          </a:xfrm>
        </p:grpSpPr>
        <p:sp>
          <p:nvSpPr>
            <p:cNvPr id="583" name="Rectangle 4"/>
            <p:cNvSpPr/>
            <p:nvPr/>
          </p:nvSpPr>
          <p:spPr>
            <a:xfrm>
              <a:off x="0" y="579240"/>
              <a:ext cx="8763120" cy="178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"/>
            <p:cNvSpPr/>
            <p:nvPr/>
          </p:nvSpPr>
          <p:spPr>
            <a:xfrm>
              <a:off x="0" y="380880"/>
              <a:ext cx="8686800" cy="1782360"/>
            </a:xfrm>
            <a:prstGeom prst="rect">
              <a:avLst/>
            </a:prstGeom>
            <a:solidFill>
              <a:srgbClr val="d9c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Text Box 16"/>
          <p:cNvSpPr/>
          <p:nvPr/>
        </p:nvSpPr>
        <p:spPr>
          <a:xfrm>
            <a:off x="-76320" y="45864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26a"/>
                </a:solidFill>
                <a:latin typeface="Arial Black"/>
              </a:rPr>
              <a:t>Evidence-Based Criminal Justice Refor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1091" descr="MCPE02667_0000[1]"/>
          <p:cNvPicPr/>
          <p:nvPr/>
        </p:nvPicPr>
        <p:blipFill>
          <a:blip r:embed="rId1"/>
          <a:stretch/>
        </p:blipFill>
        <p:spPr>
          <a:xfrm>
            <a:off x="5614920" y="4038480"/>
            <a:ext cx="2549520" cy="2819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00" descr="j0331639"/>
          <p:cNvPicPr/>
          <p:nvPr/>
        </p:nvPicPr>
        <p:blipFill>
          <a:blip r:embed="rId2"/>
          <a:stretch/>
        </p:blipFill>
        <p:spPr>
          <a:xfrm>
            <a:off x="304920" y="3716280"/>
            <a:ext cx="1752480" cy="308916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040"/>
          <p:cNvSpPr/>
          <p:nvPr/>
        </p:nvSpPr>
        <p:spPr>
          <a:xfrm>
            <a:off x="228600" y="2514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Douglas B. Marlowe, J.D., Ph.D., FCPP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Annual Staff Training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Chart 6"/>
          <p:cNvGraphicFramePr/>
          <p:nvPr/>
        </p:nvGraphicFramePr>
        <p:xfrm>
          <a:off x="762120" y="1676520"/>
          <a:ext cx="758196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0" name="Char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819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Rectangle 11"/>
          <p:cNvSpPr/>
          <p:nvPr/>
        </p:nvSpPr>
        <p:spPr>
          <a:xfrm>
            <a:off x="3048120" y="510552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6172200" y="51055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3"/>
          <p:cNvSpPr/>
          <p:nvPr/>
        </p:nvSpPr>
        <p:spPr>
          <a:xfrm rot="16200000">
            <a:off x="5594400" y="1865160"/>
            <a:ext cx="850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ive times greater cost benefi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3"/>
          <p:cNvSpPr/>
          <p:nvPr/>
        </p:nvSpPr>
        <p:spPr>
          <a:xfrm rot="16200000">
            <a:off x="3544560" y="3217680"/>
            <a:ext cx="197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>
                <a:solidFill>
                  <a:srgbClr val="ffff00"/>
                </a:solidFill>
                <a:latin typeface="Arial"/>
                <a:ea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Evaluation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029040" y="518148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Chart 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449568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13"/>
          <p:cNvSpPr/>
          <p:nvPr/>
        </p:nvSpPr>
        <p:spPr>
          <a:xfrm>
            <a:off x="6172200" y="52578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2895480" y="52578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3"/>
          <p:cNvSpPr/>
          <p:nvPr/>
        </p:nvSpPr>
        <p:spPr>
          <a:xfrm rot="16200000">
            <a:off x="5442120" y="1788480"/>
            <a:ext cx="850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Four times greater cost benefi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 rot="16200000">
            <a:off x="3392280" y="3142080"/>
            <a:ext cx="197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>
                <a:solidFill>
                  <a:srgbClr val="ffff00"/>
                </a:solidFill>
                <a:latin typeface="Arial"/>
                <a:ea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Team Functioning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Chart 2"/>
          <p:cNvGraphicFramePr/>
          <p:nvPr/>
        </p:nvGraphicFramePr>
        <p:xfrm>
          <a:off x="1219320" y="1905120"/>
          <a:ext cx="647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47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Rectangle 13"/>
          <p:cNvSpPr/>
          <p:nvPr/>
        </p:nvSpPr>
        <p:spPr>
          <a:xfrm>
            <a:off x="3200400" y="51814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4"/>
          <p:cNvSpPr/>
          <p:nvPr/>
        </p:nvSpPr>
        <p:spPr>
          <a:xfrm>
            <a:off x="5867280" y="51814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 rot="16200000">
            <a:off x="5838120" y="1857600"/>
            <a:ext cx="515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wice the cost benef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3"/>
          <p:cNvSpPr/>
          <p:nvPr/>
        </p:nvSpPr>
        <p:spPr>
          <a:xfrm rot="16200000">
            <a:off x="3102480" y="3755160"/>
            <a:ext cx="25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ff00"/>
                </a:solidFill>
                <a:latin typeface="Arial"/>
                <a:ea typeface="Arial"/>
              </a:rPr>
              <a:t>} </a:t>
            </a:r>
            <a:endParaRPr b="1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20"/>
          <p:cNvSpPr/>
          <p:nvPr/>
        </p:nvSpPr>
        <p:spPr>
          <a:xfrm>
            <a:off x="1829880" y="5359320"/>
            <a:ext cx="5373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Judicial Officer, Prosecutor, Defense Attorney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Treatment Provider, Probation Officer, Coordin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-152280" y="228600"/>
            <a:ext cx="8991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26a"/>
                </a:solidFill>
                <a:latin typeface="Arial Black"/>
              </a:rPr>
              <a:t>Treatment Court Standards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0" y="55627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0" y="1447920"/>
            <a:ext cx="914400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As a condition of funding and accreditation, require treatment court teams (and other programs) to: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ttend pre-implementation and annual train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port data annually on adherence to best pract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velop and evaluate remedial plans for deficienc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arget high risk and high need c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velop alternative tracks/programs for other c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pply graduated sanctions for distal infractions (right of interlocutory review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ioritize criminogenic and responsivity need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72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0" y="457200"/>
            <a:ext cx="876312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304920"/>
            <a:ext cx="8686800" cy="76176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-76320" y="33480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26a"/>
                </a:solidFill>
                <a:latin typeface="Arial Black"/>
              </a:rPr>
              <a:t>Sequential Intercep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97376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3" descr="C:\Users\ashleyh\Dropbox\ONDCP ARK\Post Summit\Report\ARK Updated.JPG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Rectangle 5" descr=""/>
          <p:cNvPicPr/>
          <p:nvPr/>
        </p:nvPicPr>
        <p:blipFill>
          <a:blip r:embed="rId1"/>
          <a:stretch/>
        </p:blipFill>
        <p:spPr>
          <a:xfrm>
            <a:off x="79200" y="19080"/>
            <a:ext cx="8534520" cy="14130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Rectangle 7" descr=""/>
          <p:cNvPicPr/>
          <p:nvPr/>
        </p:nvPicPr>
        <p:blipFill>
          <a:blip r:embed="rId2"/>
          <a:stretch/>
        </p:blipFill>
        <p:spPr>
          <a:xfrm>
            <a:off x="12600" y="1670040"/>
            <a:ext cx="9052200" cy="44989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" descr="Image result for principles"/>
          <p:cNvPicPr/>
          <p:nvPr/>
        </p:nvPicPr>
        <p:blipFill>
          <a:blip r:embed="rId3"/>
          <a:stretch/>
        </p:blipFill>
        <p:spPr>
          <a:xfrm rot="435000">
            <a:off x="7167240" y="237960"/>
            <a:ext cx="1314360" cy="13575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Image result for three branches of government"/>
          <p:cNvPicPr/>
          <p:nvPr/>
        </p:nvPicPr>
        <p:blipFill>
          <a:blip r:embed="rId4"/>
          <a:stretch/>
        </p:blipFill>
        <p:spPr>
          <a:xfrm>
            <a:off x="3429000" y="5732640"/>
            <a:ext cx="243828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Sentencing Reform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0" y="55627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4"/>
          <p:cNvSpPr/>
          <p:nvPr/>
        </p:nvSpPr>
        <p:spPr>
          <a:xfrm>
            <a:off x="152280" y="1447920"/>
            <a:ext cx="8839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quire risk &amp; need assessment before disposition </a:t>
            </a:r>
            <a:r>
              <a:rPr b="1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(especially for felonies, serious misdemeanors, &amp;  probation/parole revocations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Use immunity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Valid, reliable, &amp; culturally unbiased instrume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n-specialized risk tools may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be used to inform in/out decisions (expedited review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quire professionals to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sider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risk and need in certain cases (expedited review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7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26a"/>
                </a:solidFill>
                <a:latin typeface="Arial Black"/>
              </a:rPr>
              <a:t>Sentencing Reform (cont.)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55627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4"/>
          <p:cNvSpPr/>
          <p:nvPr/>
        </p:nvSpPr>
        <p:spPr>
          <a:xfrm>
            <a:off x="152280" y="1447920"/>
            <a:ext cx="8839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quire professionals to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sider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effectiveness and cost-effectiveness (return rehabilitation to forefront of sentencing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quire SAC to publish recidivism rates and costs of alternative disposition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Include dispositional rationale on the recor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Restrictive basis for appeal (abuse of discretion; clearly erroneous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Publish data on dispositional decisions (blinded?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7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Line 14"/>
          <p:cNvSpPr/>
          <p:nvPr/>
        </p:nvSpPr>
        <p:spPr>
          <a:xfrm flipV="1">
            <a:off x="203040" y="2285640"/>
            <a:ext cx="8636040" cy="3157560"/>
          </a:xfrm>
          <a:prstGeom prst="line">
            <a:avLst/>
          </a:prstGeom>
          <a:ln w="34920">
            <a:solidFill>
              <a:srgbClr val="8bffbf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609480" y="2336760"/>
            <a:ext cx="8155080" cy="3154320"/>
          </a:xfrm>
          <a:prstGeom prst="line">
            <a:avLst/>
          </a:prstGeom>
          <a:ln w="34920">
            <a:solidFill>
              <a:srgbClr val="ff7d7d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6477120" y="2514600"/>
            <a:ext cx="1415880" cy="1066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1680" bIns="316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bffbf"/>
                </a:solidFill>
                <a:latin typeface="Calibri"/>
                <a:ea typeface="Arial"/>
              </a:rPr>
              <a:t>Cost to taxpay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1295280" y="2514600"/>
            <a:ext cx="12193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1680" bIns="316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d7d"/>
                </a:solidFill>
                <a:latin typeface="Calibri"/>
                <a:ea typeface="Arial"/>
              </a:rPr>
              <a:t>Risk of recidivis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Dispositional Continuum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32"/>
          <p:cNvGrpSpPr/>
          <p:nvPr/>
        </p:nvGrpSpPr>
        <p:grpSpPr>
          <a:xfrm>
            <a:off x="228600" y="1344600"/>
            <a:ext cx="8636040" cy="4599000"/>
            <a:chOff x="228600" y="1344600"/>
            <a:chExt cx="8636040" cy="4599000"/>
          </a:xfrm>
        </p:grpSpPr>
        <p:sp>
          <p:nvSpPr>
            <p:cNvPr id="597" name="Freeform 7"/>
            <p:cNvSpPr/>
            <p:nvPr/>
          </p:nvSpPr>
          <p:spPr>
            <a:xfrm>
              <a:off x="228600" y="2133720"/>
              <a:ext cx="4356000" cy="3808800"/>
            </a:xfrm>
            <a:custGeom>
              <a:avLst/>
              <a:gdLst>
                <a:gd name="textAreaLeft" fmla="*/ 0 w 4356000"/>
                <a:gd name="textAreaRight" fmla="*/ 4356360 w 4356000"/>
                <a:gd name="textAreaTop" fmla="*/ 0 h 3808800"/>
                <a:gd name="textAreaBottom" fmla="*/ 3808800 h 3808800"/>
              </a:gdLst>
              <a:ahLst/>
              <a:rect l="textAreaLeft" t="textAreaTop" r="textAreaRight" b="textAreaBottom"/>
              <a:pathLst>
                <a:path w="2456" h="2288">
                  <a:moveTo>
                    <a:pt x="2456" y="0"/>
                  </a:moveTo>
                  <a:cubicBezTo>
                    <a:pt x="2440" y="1"/>
                    <a:pt x="2383" y="1"/>
                    <a:pt x="2358" y="3"/>
                  </a:cubicBezTo>
                  <a:cubicBezTo>
                    <a:pt x="2333" y="5"/>
                    <a:pt x="2323" y="10"/>
                    <a:pt x="2303" y="14"/>
                  </a:cubicBezTo>
                  <a:cubicBezTo>
                    <a:pt x="2283" y="18"/>
                    <a:pt x="2260" y="23"/>
                    <a:pt x="2239" y="30"/>
                  </a:cubicBezTo>
                  <a:cubicBezTo>
                    <a:pt x="2219" y="38"/>
                    <a:pt x="2198" y="46"/>
                    <a:pt x="2176" y="57"/>
                  </a:cubicBezTo>
                  <a:cubicBezTo>
                    <a:pt x="2154" y="68"/>
                    <a:pt x="2122" y="86"/>
                    <a:pt x="2105" y="98"/>
                  </a:cubicBezTo>
                  <a:cubicBezTo>
                    <a:pt x="2091" y="107"/>
                    <a:pt x="2087" y="117"/>
                    <a:pt x="2074" y="128"/>
                  </a:cubicBezTo>
                  <a:cubicBezTo>
                    <a:pt x="2067" y="134"/>
                    <a:pt x="2053" y="147"/>
                    <a:pt x="2047" y="153"/>
                  </a:cubicBezTo>
                  <a:cubicBezTo>
                    <a:pt x="2040" y="159"/>
                    <a:pt x="2044" y="160"/>
                    <a:pt x="2036" y="165"/>
                  </a:cubicBezTo>
                  <a:cubicBezTo>
                    <a:pt x="2031" y="171"/>
                    <a:pt x="2031" y="174"/>
                    <a:pt x="2026" y="180"/>
                  </a:cubicBezTo>
                  <a:cubicBezTo>
                    <a:pt x="2021" y="186"/>
                    <a:pt x="2011" y="197"/>
                    <a:pt x="2006" y="203"/>
                  </a:cubicBezTo>
                  <a:cubicBezTo>
                    <a:pt x="2001" y="209"/>
                    <a:pt x="2000" y="212"/>
                    <a:pt x="1996" y="219"/>
                  </a:cubicBezTo>
                  <a:cubicBezTo>
                    <a:pt x="1979" y="250"/>
                    <a:pt x="1959" y="286"/>
                    <a:pt x="1939" y="315"/>
                  </a:cubicBezTo>
                  <a:cubicBezTo>
                    <a:pt x="1925" y="335"/>
                    <a:pt x="1923" y="362"/>
                    <a:pt x="1909" y="383"/>
                  </a:cubicBezTo>
                  <a:cubicBezTo>
                    <a:pt x="1902" y="403"/>
                    <a:pt x="1894" y="418"/>
                    <a:pt x="1888" y="435"/>
                  </a:cubicBezTo>
                  <a:cubicBezTo>
                    <a:pt x="1882" y="452"/>
                    <a:pt x="1877" y="471"/>
                    <a:pt x="1871" y="488"/>
                  </a:cubicBezTo>
                  <a:cubicBezTo>
                    <a:pt x="1866" y="504"/>
                    <a:pt x="1855" y="521"/>
                    <a:pt x="1849" y="537"/>
                  </a:cubicBezTo>
                  <a:cubicBezTo>
                    <a:pt x="1844" y="549"/>
                    <a:pt x="1846" y="553"/>
                    <a:pt x="1843" y="561"/>
                  </a:cubicBezTo>
                  <a:cubicBezTo>
                    <a:pt x="1840" y="569"/>
                    <a:pt x="1839" y="564"/>
                    <a:pt x="1833" y="584"/>
                  </a:cubicBezTo>
                  <a:cubicBezTo>
                    <a:pt x="1823" y="616"/>
                    <a:pt x="1819" y="653"/>
                    <a:pt x="1804" y="683"/>
                  </a:cubicBezTo>
                  <a:cubicBezTo>
                    <a:pt x="1784" y="725"/>
                    <a:pt x="1816" y="631"/>
                    <a:pt x="1792" y="732"/>
                  </a:cubicBezTo>
                  <a:cubicBezTo>
                    <a:pt x="1789" y="746"/>
                    <a:pt x="1789" y="751"/>
                    <a:pt x="1786" y="762"/>
                  </a:cubicBezTo>
                  <a:cubicBezTo>
                    <a:pt x="1783" y="773"/>
                    <a:pt x="1780" y="769"/>
                    <a:pt x="1773" y="799"/>
                  </a:cubicBezTo>
                  <a:cubicBezTo>
                    <a:pt x="1768" y="823"/>
                    <a:pt x="1755" y="896"/>
                    <a:pt x="1745" y="943"/>
                  </a:cubicBezTo>
                  <a:cubicBezTo>
                    <a:pt x="1742" y="958"/>
                    <a:pt x="1733" y="999"/>
                    <a:pt x="1733" y="999"/>
                  </a:cubicBezTo>
                  <a:cubicBezTo>
                    <a:pt x="1731" y="1014"/>
                    <a:pt x="1728" y="1014"/>
                    <a:pt x="1725" y="1029"/>
                  </a:cubicBezTo>
                  <a:cubicBezTo>
                    <a:pt x="1722" y="1043"/>
                    <a:pt x="1726" y="1050"/>
                    <a:pt x="1717" y="1086"/>
                  </a:cubicBezTo>
                  <a:cubicBezTo>
                    <a:pt x="1707" y="1144"/>
                    <a:pt x="1697" y="1159"/>
                    <a:pt x="1673" y="1245"/>
                  </a:cubicBezTo>
                  <a:cubicBezTo>
                    <a:pt x="1688" y="1249"/>
                    <a:pt x="1658" y="1264"/>
                    <a:pt x="1668" y="1274"/>
                  </a:cubicBezTo>
                  <a:cubicBezTo>
                    <a:pt x="1655" y="1315"/>
                    <a:pt x="1622" y="1423"/>
                    <a:pt x="1600" y="1480"/>
                  </a:cubicBezTo>
                  <a:cubicBezTo>
                    <a:pt x="1581" y="1535"/>
                    <a:pt x="1591" y="1539"/>
                    <a:pt x="1551" y="1606"/>
                  </a:cubicBezTo>
                  <a:cubicBezTo>
                    <a:pt x="1524" y="1695"/>
                    <a:pt x="1430" y="1827"/>
                    <a:pt x="1361" y="1883"/>
                  </a:cubicBezTo>
                  <a:cubicBezTo>
                    <a:pt x="1339" y="1901"/>
                    <a:pt x="1330" y="1932"/>
                    <a:pt x="1303" y="1941"/>
                  </a:cubicBezTo>
                  <a:cubicBezTo>
                    <a:pt x="1286" y="1957"/>
                    <a:pt x="1297" y="1958"/>
                    <a:pt x="1266" y="1984"/>
                  </a:cubicBezTo>
                  <a:cubicBezTo>
                    <a:pt x="1235" y="2010"/>
                    <a:pt x="1171" y="2061"/>
                    <a:pt x="1116" y="2095"/>
                  </a:cubicBezTo>
                  <a:cubicBezTo>
                    <a:pt x="1068" y="2127"/>
                    <a:pt x="995" y="2173"/>
                    <a:pt x="938" y="2191"/>
                  </a:cubicBezTo>
                  <a:cubicBezTo>
                    <a:pt x="788" y="2239"/>
                    <a:pt x="632" y="2259"/>
                    <a:pt x="476" y="2273"/>
                  </a:cubicBezTo>
                  <a:cubicBezTo>
                    <a:pt x="390" y="2288"/>
                    <a:pt x="454" y="2273"/>
                    <a:pt x="419" y="2276"/>
                  </a:cubicBezTo>
                  <a:cubicBezTo>
                    <a:pt x="340" y="2277"/>
                    <a:pt x="32" y="2278"/>
                    <a:pt x="0" y="2280"/>
                  </a:cubicBezTo>
                </a:path>
              </a:pathLst>
            </a:custGeom>
            <a:noFill/>
            <a:ln w="34920">
              <a:solidFill>
                <a:srgbClr val="89e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9"/>
            <p:cNvSpPr/>
            <p:nvPr/>
          </p:nvSpPr>
          <p:spPr>
            <a:xfrm>
              <a:off x="3444840" y="1344600"/>
              <a:ext cx="21272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31680" bIns="316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89e0ff"/>
                  </a:solidFill>
                  <a:latin typeface="Calibri"/>
                  <a:ea typeface="Arial"/>
                </a:rPr>
                <a:t>Functioning of the individu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7"/>
            <p:cNvSpPr/>
            <p:nvPr/>
          </p:nvSpPr>
          <p:spPr>
            <a:xfrm flipH="1">
              <a:off x="4508640" y="2133720"/>
              <a:ext cx="4356000" cy="3809880"/>
            </a:xfrm>
            <a:custGeom>
              <a:avLst/>
              <a:gdLst>
                <a:gd name="textAreaLeft" fmla="*/ 360 w 4356000"/>
                <a:gd name="textAreaRight" fmla="*/ 4356720 w 4356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2456" h="2288">
                  <a:moveTo>
                    <a:pt x="2456" y="0"/>
                  </a:moveTo>
                  <a:cubicBezTo>
                    <a:pt x="2440" y="1"/>
                    <a:pt x="2383" y="1"/>
                    <a:pt x="2358" y="3"/>
                  </a:cubicBezTo>
                  <a:cubicBezTo>
                    <a:pt x="2333" y="5"/>
                    <a:pt x="2323" y="10"/>
                    <a:pt x="2303" y="14"/>
                  </a:cubicBezTo>
                  <a:cubicBezTo>
                    <a:pt x="2283" y="18"/>
                    <a:pt x="2260" y="23"/>
                    <a:pt x="2239" y="30"/>
                  </a:cubicBezTo>
                  <a:cubicBezTo>
                    <a:pt x="2219" y="38"/>
                    <a:pt x="2198" y="46"/>
                    <a:pt x="2176" y="57"/>
                  </a:cubicBezTo>
                  <a:cubicBezTo>
                    <a:pt x="2154" y="68"/>
                    <a:pt x="2122" y="86"/>
                    <a:pt x="2105" y="98"/>
                  </a:cubicBezTo>
                  <a:cubicBezTo>
                    <a:pt x="2091" y="107"/>
                    <a:pt x="2087" y="117"/>
                    <a:pt x="2074" y="128"/>
                  </a:cubicBezTo>
                  <a:cubicBezTo>
                    <a:pt x="2067" y="134"/>
                    <a:pt x="2053" y="147"/>
                    <a:pt x="2047" y="153"/>
                  </a:cubicBezTo>
                  <a:cubicBezTo>
                    <a:pt x="2040" y="159"/>
                    <a:pt x="2044" y="160"/>
                    <a:pt x="2036" y="165"/>
                  </a:cubicBezTo>
                  <a:cubicBezTo>
                    <a:pt x="2031" y="171"/>
                    <a:pt x="2031" y="174"/>
                    <a:pt x="2026" y="180"/>
                  </a:cubicBezTo>
                  <a:cubicBezTo>
                    <a:pt x="2021" y="186"/>
                    <a:pt x="2011" y="197"/>
                    <a:pt x="2006" y="203"/>
                  </a:cubicBezTo>
                  <a:cubicBezTo>
                    <a:pt x="2001" y="209"/>
                    <a:pt x="2000" y="212"/>
                    <a:pt x="1996" y="219"/>
                  </a:cubicBezTo>
                  <a:cubicBezTo>
                    <a:pt x="1979" y="250"/>
                    <a:pt x="1959" y="286"/>
                    <a:pt x="1939" y="315"/>
                  </a:cubicBezTo>
                  <a:cubicBezTo>
                    <a:pt x="1925" y="335"/>
                    <a:pt x="1923" y="362"/>
                    <a:pt x="1909" y="383"/>
                  </a:cubicBezTo>
                  <a:cubicBezTo>
                    <a:pt x="1902" y="403"/>
                    <a:pt x="1894" y="418"/>
                    <a:pt x="1888" y="435"/>
                  </a:cubicBezTo>
                  <a:cubicBezTo>
                    <a:pt x="1882" y="452"/>
                    <a:pt x="1877" y="471"/>
                    <a:pt x="1871" y="488"/>
                  </a:cubicBezTo>
                  <a:cubicBezTo>
                    <a:pt x="1866" y="504"/>
                    <a:pt x="1855" y="521"/>
                    <a:pt x="1849" y="537"/>
                  </a:cubicBezTo>
                  <a:cubicBezTo>
                    <a:pt x="1844" y="549"/>
                    <a:pt x="1846" y="553"/>
                    <a:pt x="1843" y="561"/>
                  </a:cubicBezTo>
                  <a:cubicBezTo>
                    <a:pt x="1840" y="569"/>
                    <a:pt x="1839" y="564"/>
                    <a:pt x="1833" y="584"/>
                  </a:cubicBezTo>
                  <a:cubicBezTo>
                    <a:pt x="1823" y="616"/>
                    <a:pt x="1819" y="653"/>
                    <a:pt x="1804" y="683"/>
                  </a:cubicBezTo>
                  <a:cubicBezTo>
                    <a:pt x="1784" y="725"/>
                    <a:pt x="1816" y="631"/>
                    <a:pt x="1792" y="732"/>
                  </a:cubicBezTo>
                  <a:cubicBezTo>
                    <a:pt x="1789" y="746"/>
                    <a:pt x="1789" y="751"/>
                    <a:pt x="1786" y="762"/>
                  </a:cubicBezTo>
                  <a:cubicBezTo>
                    <a:pt x="1783" y="773"/>
                    <a:pt x="1780" y="769"/>
                    <a:pt x="1773" y="799"/>
                  </a:cubicBezTo>
                  <a:cubicBezTo>
                    <a:pt x="1768" y="823"/>
                    <a:pt x="1755" y="896"/>
                    <a:pt x="1745" y="943"/>
                  </a:cubicBezTo>
                  <a:cubicBezTo>
                    <a:pt x="1742" y="958"/>
                    <a:pt x="1733" y="999"/>
                    <a:pt x="1733" y="999"/>
                  </a:cubicBezTo>
                  <a:cubicBezTo>
                    <a:pt x="1731" y="1014"/>
                    <a:pt x="1728" y="1014"/>
                    <a:pt x="1725" y="1029"/>
                  </a:cubicBezTo>
                  <a:cubicBezTo>
                    <a:pt x="1722" y="1043"/>
                    <a:pt x="1726" y="1050"/>
                    <a:pt x="1717" y="1086"/>
                  </a:cubicBezTo>
                  <a:cubicBezTo>
                    <a:pt x="1707" y="1144"/>
                    <a:pt x="1697" y="1159"/>
                    <a:pt x="1673" y="1245"/>
                  </a:cubicBezTo>
                  <a:cubicBezTo>
                    <a:pt x="1688" y="1249"/>
                    <a:pt x="1658" y="1264"/>
                    <a:pt x="1668" y="1274"/>
                  </a:cubicBezTo>
                  <a:cubicBezTo>
                    <a:pt x="1655" y="1315"/>
                    <a:pt x="1622" y="1423"/>
                    <a:pt x="1600" y="1480"/>
                  </a:cubicBezTo>
                  <a:cubicBezTo>
                    <a:pt x="1581" y="1535"/>
                    <a:pt x="1591" y="1539"/>
                    <a:pt x="1551" y="1606"/>
                  </a:cubicBezTo>
                  <a:cubicBezTo>
                    <a:pt x="1524" y="1695"/>
                    <a:pt x="1430" y="1827"/>
                    <a:pt x="1361" y="1883"/>
                  </a:cubicBezTo>
                  <a:cubicBezTo>
                    <a:pt x="1339" y="1901"/>
                    <a:pt x="1330" y="1932"/>
                    <a:pt x="1303" y="1941"/>
                  </a:cubicBezTo>
                  <a:cubicBezTo>
                    <a:pt x="1286" y="1957"/>
                    <a:pt x="1297" y="1958"/>
                    <a:pt x="1266" y="1984"/>
                  </a:cubicBezTo>
                  <a:cubicBezTo>
                    <a:pt x="1235" y="2010"/>
                    <a:pt x="1171" y="2061"/>
                    <a:pt x="1116" y="2095"/>
                  </a:cubicBezTo>
                  <a:cubicBezTo>
                    <a:pt x="1068" y="2127"/>
                    <a:pt x="995" y="2173"/>
                    <a:pt x="938" y="2191"/>
                  </a:cubicBezTo>
                  <a:cubicBezTo>
                    <a:pt x="788" y="2239"/>
                    <a:pt x="632" y="2259"/>
                    <a:pt x="476" y="2273"/>
                  </a:cubicBezTo>
                  <a:cubicBezTo>
                    <a:pt x="390" y="2288"/>
                    <a:pt x="454" y="2273"/>
                    <a:pt x="419" y="2276"/>
                  </a:cubicBezTo>
                  <a:cubicBezTo>
                    <a:pt x="340" y="2277"/>
                    <a:pt x="32" y="2278"/>
                    <a:pt x="0" y="2280"/>
                  </a:cubicBezTo>
                </a:path>
              </a:pathLst>
            </a:custGeom>
            <a:noFill/>
            <a:ln w="34920">
              <a:solidFill>
                <a:srgbClr val="89e0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31"/>
          <p:cNvGrpSpPr/>
          <p:nvPr/>
        </p:nvGrpSpPr>
        <p:grpSpPr>
          <a:xfrm>
            <a:off x="120600" y="5486040"/>
            <a:ext cx="8794800" cy="1219680"/>
            <a:chOff x="120600" y="5486040"/>
            <a:chExt cx="8794800" cy="1219680"/>
          </a:xfrm>
        </p:grpSpPr>
        <p:sp>
          <p:nvSpPr>
            <p:cNvPr id="601" name="Line 8"/>
            <p:cNvSpPr/>
            <p:nvPr/>
          </p:nvSpPr>
          <p:spPr>
            <a:xfrm>
              <a:off x="120600" y="5685840"/>
              <a:ext cx="8794800" cy="28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30"/>
            <p:cNvGrpSpPr/>
            <p:nvPr/>
          </p:nvGrpSpPr>
          <p:grpSpPr>
            <a:xfrm>
              <a:off x="1523880" y="5486040"/>
              <a:ext cx="7391520" cy="1219680"/>
              <a:chOff x="1523880" y="5486040"/>
              <a:chExt cx="7391520" cy="1219680"/>
            </a:xfrm>
          </p:grpSpPr>
          <p:sp>
            <p:nvSpPr>
              <p:cNvPr id="603" name="Text Box 5"/>
              <p:cNvSpPr/>
              <p:nvPr/>
            </p:nvSpPr>
            <p:spPr>
              <a:xfrm>
                <a:off x="1523880" y="5943600"/>
                <a:ext cx="110916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960" rIns="57960" tIns="28800" bIns="28800" anchor="t">
                <a:normAutofit fontScale="93000"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Pre-plea diversion 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Text Box 12"/>
              <p:cNvSpPr/>
              <p:nvPr/>
            </p:nvSpPr>
            <p:spPr>
              <a:xfrm>
                <a:off x="3767400" y="5932800"/>
                <a:ext cx="11091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960" rIns="57960" tIns="28800" bIns="28800" anchor="t">
                <a:normAutofit fontScale="77000"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Post-plea diversion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0"/>
              <p:cNvSpPr/>
              <p:nvPr/>
            </p:nvSpPr>
            <p:spPr>
              <a:xfrm>
                <a:off x="7543800" y="5943240"/>
                <a:ext cx="13716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960" rIns="57960" tIns="28800" bIns="28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Sentence to incarceration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1"/>
              <p:cNvSpPr/>
              <p:nvPr/>
            </p:nvSpPr>
            <p:spPr>
              <a:xfrm>
                <a:off x="5999040" y="5890320"/>
                <a:ext cx="146808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960" rIns="57960" tIns="28800" bIns="28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Sentence to restrictive intermediate punishment (IP / RIP)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Text Box 22"/>
              <p:cNvSpPr/>
              <p:nvPr/>
            </p:nvSpPr>
            <p:spPr>
              <a:xfrm>
                <a:off x="4723920" y="5867280"/>
                <a:ext cx="13608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960" rIns="57960" tIns="28800" bIns="28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Sentence to probation or community supervision</a:t>
                </a:r>
                <a:endParaRPr b="1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33"/>
              <p:cNvSpPr/>
              <p:nvPr/>
            </p:nvSpPr>
            <p:spPr>
              <a:xfrm rot="21432600">
                <a:off x="2975760" y="5495760"/>
                <a:ext cx="404280" cy="192600"/>
              </a:xfrm>
              <a:custGeom>
                <a:avLst/>
                <a:gdLst>
                  <a:gd name="textAreaLeft" fmla="*/ 69480 w 404280"/>
                  <a:gd name="textAreaRight" fmla="*/ 292680 w 404280"/>
                  <a:gd name="textAreaTop" fmla="*/ 25560 h 192600"/>
                  <a:gd name="textAreaBottom" fmla="*/ 167040 h 19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2" hR="21600" stAng="10800000" swAng="5400000"/>
                    <a:lnTo>
                      <a:pt x="11919" y="0"/>
                    </a:lnTo>
                    <a:arcTo wR="7442" hR="21600" stAng="-5400000" swAng="2655601"/>
                    <a:lnTo>
                      <a:pt x="21174" y="14400"/>
                    </a:lnTo>
                    <a:lnTo>
                      <a:pt x="17123" y="21600"/>
                    </a:lnTo>
                    <a:lnTo>
                      <a:pt x="12219" y="14400"/>
                    </a:lnTo>
                    <a:lnTo>
                      <a:pt x="14458" y="14400"/>
                    </a:lnTo>
                    <a:arcTo wR="7442" hR="21600" stAng="-2744399" swAng="-2283493"/>
                    <a:lnTo>
                      <a:pt x="9681" y="1000"/>
                    </a:lnTo>
                    <a:arcTo wR="7442" hR="21600" stAng="-5772108" swAng="-5027892"/>
                    <a:close/>
                  </a:path>
                  <a:path fill="darkenLess" w="21600" h="21600">
                    <a:moveTo>
                      <a:pt x="0" y="21600"/>
                    </a:moveTo>
                    <a:arcTo wR="7442" hR="21600" stAng="10800000" swAng="5400000"/>
                    <a:lnTo>
                      <a:pt x="7442" y="0"/>
                    </a:lnTo>
                    <a:arcTo wR="7442" hR="21600" stAng="-5400000" swAng="372108"/>
                    <a:lnTo>
                      <a:pt x="9681" y="1000"/>
                    </a:lnTo>
                    <a:arcTo wR="7442" hR="21600" stAng="-5772108" swAng="-5027892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AutoShape 34"/>
              <p:cNvSpPr/>
              <p:nvPr/>
            </p:nvSpPr>
            <p:spPr>
              <a:xfrm rot="21432600">
                <a:off x="4118760" y="5495760"/>
                <a:ext cx="404280" cy="192600"/>
              </a:xfrm>
              <a:custGeom>
                <a:avLst/>
                <a:gdLst>
                  <a:gd name="textAreaLeft" fmla="*/ 69480 w 404280"/>
                  <a:gd name="textAreaRight" fmla="*/ 292680 w 404280"/>
                  <a:gd name="textAreaTop" fmla="*/ 25560 h 192600"/>
                  <a:gd name="textAreaBottom" fmla="*/ 167040 h 19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2" hR="21600" stAng="10800000" swAng="5400000"/>
                    <a:lnTo>
                      <a:pt x="11919" y="0"/>
                    </a:lnTo>
                    <a:arcTo wR="7442" hR="21600" stAng="-5400000" swAng="2655601"/>
                    <a:lnTo>
                      <a:pt x="21174" y="14400"/>
                    </a:lnTo>
                    <a:lnTo>
                      <a:pt x="17123" y="21600"/>
                    </a:lnTo>
                    <a:lnTo>
                      <a:pt x="12219" y="14400"/>
                    </a:lnTo>
                    <a:lnTo>
                      <a:pt x="14458" y="14400"/>
                    </a:lnTo>
                    <a:arcTo wR="7442" hR="21600" stAng="-2744399" swAng="-2283493"/>
                    <a:lnTo>
                      <a:pt x="9681" y="1000"/>
                    </a:lnTo>
                    <a:arcTo wR="7442" hR="21600" stAng="-5772108" swAng="-5027892"/>
                    <a:close/>
                  </a:path>
                  <a:path fill="darkenLess" w="21600" h="21600">
                    <a:moveTo>
                      <a:pt x="0" y="21600"/>
                    </a:moveTo>
                    <a:arcTo wR="7442" hR="21600" stAng="10800000" swAng="5400000"/>
                    <a:lnTo>
                      <a:pt x="7442" y="0"/>
                    </a:lnTo>
                    <a:arcTo wR="7442" hR="21600" stAng="-5400000" swAng="372108"/>
                    <a:lnTo>
                      <a:pt x="9681" y="1000"/>
                    </a:lnTo>
                    <a:arcTo wR="7442" hR="21600" stAng="-5772108" swAng="-5027892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AutoShape 35"/>
              <p:cNvSpPr/>
              <p:nvPr/>
            </p:nvSpPr>
            <p:spPr>
              <a:xfrm rot="21432600">
                <a:off x="5229720" y="5495760"/>
                <a:ext cx="404280" cy="192600"/>
              </a:xfrm>
              <a:custGeom>
                <a:avLst/>
                <a:gdLst>
                  <a:gd name="textAreaLeft" fmla="*/ 69480 w 404280"/>
                  <a:gd name="textAreaRight" fmla="*/ 292680 w 404280"/>
                  <a:gd name="textAreaTop" fmla="*/ 25560 h 192600"/>
                  <a:gd name="textAreaBottom" fmla="*/ 167040 h 19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2" hR="21600" stAng="10800000" swAng="5400000"/>
                    <a:lnTo>
                      <a:pt x="11919" y="0"/>
                    </a:lnTo>
                    <a:arcTo wR="7442" hR="21600" stAng="-5400000" swAng="2655601"/>
                    <a:lnTo>
                      <a:pt x="21174" y="14400"/>
                    </a:lnTo>
                    <a:lnTo>
                      <a:pt x="17123" y="21600"/>
                    </a:lnTo>
                    <a:lnTo>
                      <a:pt x="12219" y="14400"/>
                    </a:lnTo>
                    <a:lnTo>
                      <a:pt x="14458" y="14400"/>
                    </a:lnTo>
                    <a:arcTo wR="7442" hR="21600" stAng="-2744399" swAng="-2283493"/>
                    <a:lnTo>
                      <a:pt x="9681" y="1000"/>
                    </a:lnTo>
                    <a:arcTo wR="7442" hR="21600" stAng="-5772108" swAng="-5027892"/>
                    <a:close/>
                  </a:path>
                  <a:path fill="darkenLess" w="21600" h="21600">
                    <a:moveTo>
                      <a:pt x="0" y="21600"/>
                    </a:moveTo>
                    <a:arcTo wR="7442" hR="21600" stAng="10800000" swAng="5400000"/>
                    <a:lnTo>
                      <a:pt x="7442" y="0"/>
                    </a:lnTo>
                    <a:arcTo wR="7442" hR="21600" stAng="-5400000" swAng="372108"/>
                    <a:lnTo>
                      <a:pt x="9681" y="1000"/>
                    </a:lnTo>
                    <a:arcTo wR="7442" hR="21600" stAng="-5772108" swAng="-5027892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36"/>
              <p:cNvSpPr/>
              <p:nvPr/>
            </p:nvSpPr>
            <p:spPr>
              <a:xfrm rot="21432600">
                <a:off x="6537240" y="5495760"/>
                <a:ext cx="404280" cy="192600"/>
              </a:xfrm>
              <a:custGeom>
                <a:avLst/>
                <a:gdLst>
                  <a:gd name="textAreaLeft" fmla="*/ 69480 w 404280"/>
                  <a:gd name="textAreaRight" fmla="*/ 292680 w 404280"/>
                  <a:gd name="textAreaTop" fmla="*/ 25560 h 192600"/>
                  <a:gd name="textAreaBottom" fmla="*/ 167040 h 19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2" hR="21600" stAng="10800000" swAng="5400000"/>
                    <a:lnTo>
                      <a:pt x="11919" y="0"/>
                    </a:lnTo>
                    <a:arcTo wR="7442" hR="21600" stAng="-5400000" swAng="2655601"/>
                    <a:lnTo>
                      <a:pt x="21174" y="14400"/>
                    </a:lnTo>
                    <a:lnTo>
                      <a:pt x="17123" y="21600"/>
                    </a:lnTo>
                    <a:lnTo>
                      <a:pt x="12219" y="14400"/>
                    </a:lnTo>
                    <a:lnTo>
                      <a:pt x="14458" y="14400"/>
                    </a:lnTo>
                    <a:arcTo wR="7442" hR="21600" stAng="-2744399" swAng="-2283493"/>
                    <a:lnTo>
                      <a:pt x="9681" y="1000"/>
                    </a:lnTo>
                    <a:arcTo wR="7442" hR="21600" stAng="-5772108" swAng="-5027892"/>
                    <a:close/>
                  </a:path>
                  <a:path fill="darkenLess" w="21600" h="21600">
                    <a:moveTo>
                      <a:pt x="0" y="21600"/>
                    </a:moveTo>
                    <a:arcTo wR="7442" hR="21600" stAng="10800000" swAng="5400000"/>
                    <a:lnTo>
                      <a:pt x="7442" y="0"/>
                    </a:lnTo>
                    <a:arcTo wR="7442" hR="21600" stAng="-5400000" swAng="372108"/>
                    <a:lnTo>
                      <a:pt x="9681" y="1000"/>
                    </a:lnTo>
                    <a:arcTo wR="7442" hR="21600" stAng="-5772108" swAng="-5027892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Text Box 9"/>
          <p:cNvSpPr/>
          <p:nvPr/>
        </p:nvSpPr>
        <p:spPr>
          <a:xfrm>
            <a:off x="76320" y="594360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8800" bIns="28800" anchor="t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Arial"/>
              </a:rPr>
              <a:t>Decriminalization/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  <a:ea typeface="Arial"/>
              </a:rPr>
              <a:t>medicalization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2"/>
          <p:cNvSpPr/>
          <p:nvPr/>
        </p:nvSpPr>
        <p:spPr>
          <a:xfrm rot="21432600">
            <a:off x="1909800" y="5495760"/>
            <a:ext cx="404640" cy="192240"/>
          </a:xfrm>
          <a:custGeom>
            <a:avLst/>
            <a:gdLst>
              <a:gd name="textAreaLeft" fmla="*/ 69480 w 404640"/>
              <a:gd name="textAreaRight" fmla="*/ 293040 w 404640"/>
              <a:gd name="textAreaTop" fmla="*/ 25560 h 192240"/>
              <a:gd name="textAreaBottom" fmla="*/ 1666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42" hR="21600" stAng="10800000" swAng="5400000"/>
                <a:lnTo>
                  <a:pt x="11919" y="0"/>
                </a:lnTo>
                <a:arcTo wR="7442" hR="21600" stAng="-5400000" swAng="2655601"/>
                <a:lnTo>
                  <a:pt x="21174" y="14400"/>
                </a:lnTo>
                <a:lnTo>
                  <a:pt x="17123" y="21600"/>
                </a:lnTo>
                <a:lnTo>
                  <a:pt x="12219" y="14400"/>
                </a:lnTo>
                <a:lnTo>
                  <a:pt x="14458" y="14400"/>
                </a:lnTo>
                <a:arcTo wR="7442" hR="21600" stAng="-2744399" swAng="-2283493"/>
                <a:lnTo>
                  <a:pt x="9681" y="1000"/>
                </a:lnTo>
                <a:arcTo wR="7442" hR="21600" stAng="-5772108" swAng="-5027892"/>
                <a:close/>
              </a:path>
              <a:path fill="darkenLess" w="21600" h="21600">
                <a:moveTo>
                  <a:pt x="0" y="21600"/>
                </a:moveTo>
                <a:arcTo wR="7442" hR="21600" stAng="10800000" swAng="5400000"/>
                <a:lnTo>
                  <a:pt x="7442" y="0"/>
                </a:lnTo>
                <a:arcTo wR="7442" hR="21600" stAng="-5400000" swAng="372108"/>
                <a:lnTo>
                  <a:pt x="9681" y="1000"/>
                </a:lnTo>
                <a:arcTo wR="7442" hR="21600" stAng="-5772108" swAng="-5027892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2590920" y="5943600"/>
            <a:ext cx="12952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8800" bIns="28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De-felon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1"/>
          <p:cNvSpPr/>
          <p:nvPr/>
        </p:nvSpPr>
        <p:spPr>
          <a:xfrm>
            <a:off x="3309840" y="5029200"/>
            <a:ext cx="2600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000"/>
                </a:solidFill>
                <a:latin typeface="Calibri"/>
              </a:rPr>
              <a:t>l</a:t>
            </a:r>
            <a:r>
              <a:rPr b="1" i="1" lang="en-US" sz="1900" spc="-1" strike="noStrike">
                <a:solidFill>
                  <a:srgbClr val="ffc000"/>
                </a:solidFill>
                <a:latin typeface="Calibri"/>
              </a:rPr>
              <a:t>--- Treatment Courts ---</a:t>
            </a:r>
            <a:r>
              <a:rPr b="1" lang="en-US" sz="1900" spc="-1" strike="noStrike">
                <a:solidFill>
                  <a:srgbClr val="ffc000"/>
                </a:solidFill>
                <a:latin typeface="Calibri"/>
              </a:rPr>
              <a:t>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29"/>
          <p:cNvSpPr/>
          <p:nvPr/>
        </p:nvSpPr>
        <p:spPr>
          <a:xfrm>
            <a:off x="6104880" y="1411200"/>
            <a:ext cx="27424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unishment / Public Safe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mphasi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30"/>
          <p:cNvSpPr/>
          <p:nvPr/>
        </p:nvSpPr>
        <p:spPr>
          <a:xfrm>
            <a:off x="238680" y="1371600"/>
            <a:ext cx="264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reatment / Public Heal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Emphasi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Risk Principl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152280" y="1600200"/>
            <a:ext cx="9068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 risk for violence or dangerousnes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ifficult or complicated prognosi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igher the risk level, the more intensive the supervision and accountability should be,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and vice versa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ixing risk levels is contraindicated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6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0" y="457200"/>
            <a:ext cx="876312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304920"/>
            <a:ext cx="8686800" cy="76176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-76320" y="304920"/>
            <a:ext cx="883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26a"/>
                </a:solidFill>
                <a:latin typeface="Arial Black"/>
              </a:rPr>
              <a:t>Prognostic Risk Factors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3" descr="MCSO01675_0000[1]"/>
          <p:cNvPicPr/>
          <p:nvPr/>
        </p:nvPicPr>
        <p:blipFill>
          <a:blip r:embed="rId1"/>
          <a:stretch/>
        </p:blipFill>
        <p:spPr>
          <a:xfrm>
            <a:off x="6629400" y="1600200"/>
            <a:ext cx="2344680" cy="216864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14"/>
          <p:cNvSpPr/>
          <p:nvPr/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Current age &lt; 25 year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Delinquency onset &lt; 16 year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Substance abuse onset &lt; 14 year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Prior rehabilitation failure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Prior convictions or incarcera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Antisocial Personality Disorder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Family history of crime or addi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Criminal or delinquent peer affilia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Need Principle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6320" y="1523880"/>
            <a:ext cx="9067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linical disorders or functional impairments (diagnosis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The higher the need level, the more intensive the treatment and rehabilitation services should be, 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and vice versa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Focus on criminogenic and responsivity needs </a:t>
            </a:r>
            <a:r>
              <a:rPr b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first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(especially addiction &amp; mental illness)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Mixing need levels is contraindicated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6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0" y="457200"/>
            <a:ext cx="876312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304920"/>
            <a:ext cx="8686800" cy="76176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-76320" y="3348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26a"/>
                </a:solidFill>
                <a:latin typeface="Arial Black"/>
              </a:rPr>
              <a:t>Addiction and Mental Ill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97376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76320" y="11426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93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Neurological or neurochemical brain disord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66"/>
                </a:solidFill>
                <a:latin typeface="Arial"/>
              </a:rPr>
              <a:t>Chronic, relapsing and progressive (worsen without treatment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66"/>
                </a:solidFill>
                <a:latin typeface="Arial"/>
              </a:rPr>
              <a:t>Worsen if punished for “distal” infractions, such as substance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66"/>
                </a:solidFill>
                <a:latin typeface="Arial"/>
              </a:rPr>
              <a:t>Worsen if not punished for “proximal” infractions, such as lying, treatment absences, or tainted urine specimens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0">
              <a:lnSpc>
                <a:spcPct val="11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0" y="457200"/>
            <a:ext cx="876312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304920"/>
            <a:ext cx="8686800" cy="76176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-76320" y="33480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26a"/>
                </a:solidFill>
                <a:latin typeface="Arial Black"/>
              </a:rPr>
              <a:t>Quadrant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2973600" y="13255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 Ris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15"/>
          <p:cNvGrpSpPr/>
          <p:nvPr/>
        </p:nvGrpSpPr>
        <p:grpSpPr>
          <a:xfrm>
            <a:off x="2438280" y="2057400"/>
            <a:ext cx="6172200" cy="4114800"/>
            <a:chOff x="2438280" y="2057400"/>
            <a:chExt cx="6172200" cy="4114800"/>
          </a:xfrm>
        </p:grpSpPr>
        <p:sp>
          <p:nvSpPr>
            <p:cNvPr id="645" name="Rectangle 16"/>
            <p:cNvSpPr/>
            <p:nvPr/>
          </p:nvSpPr>
          <p:spPr>
            <a:xfrm>
              <a:off x="2438280" y="2057400"/>
              <a:ext cx="6172200" cy="4114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54864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2438280" y="4114800"/>
              <a:ext cx="617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Text Box 19"/>
          <p:cNvSpPr/>
          <p:nvPr/>
        </p:nvSpPr>
        <p:spPr>
          <a:xfrm>
            <a:off x="5959440" y="132552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Low Ris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0"/>
          <p:cNvSpPr/>
          <p:nvPr/>
        </p:nvSpPr>
        <p:spPr>
          <a:xfrm>
            <a:off x="559440" y="2579760"/>
            <a:ext cx="11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e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570960" y="4449600"/>
            <a:ext cx="11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Low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e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22"/>
          <p:cNvSpPr/>
          <p:nvPr/>
        </p:nvSpPr>
        <p:spPr>
          <a:xfrm>
            <a:off x="2409840" y="2422440"/>
            <a:ext cx="3178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ability &amp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Emph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6137640" y="2139840"/>
            <a:ext cx="165456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6086160" y="4419720"/>
            <a:ext cx="198504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evention &amp;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iversion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phasis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TextBox 21"/>
          <p:cNvGrpSpPr/>
          <p:nvPr/>
        </p:nvGrpSpPr>
        <p:grpSpPr>
          <a:xfrm>
            <a:off x="2736720" y="2481120"/>
            <a:ext cx="2451240" cy="1030320"/>
            <a:chOff x="2736720" y="2481120"/>
            <a:chExt cx="2451240" cy="1030320"/>
          </a:xfrm>
        </p:grpSpPr>
        <p:pic>
          <p:nvPicPr>
            <p:cNvPr id="655" name="TextBox 21" descr=""/>
            <p:cNvPicPr/>
            <p:nvPr/>
          </p:nvPicPr>
          <p:blipFill>
            <a:blip r:embed="rId1"/>
            <a:stretch/>
          </p:blipFill>
          <p:spPr>
            <a:xfrm>
              <a:off x="2736720" y="2481120"/>
              <a:ext cx="24512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2743200" y="2489040"/>
              <a:ext cx="2438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Treatment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Court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TextBox 22"/>
          <p:cNvGrpSpPr/>
          <p:nvPr/>
        </p:nvGrpSpPr>
        <p:grpSpPr>
          <a:xfrm>
            <a:off x="5632560" y="2541600"/>
            <a:ext cx="2743200" cy="1030320"/>
            <a:chOff x="5632560" y="2541600"/>
            <a:chExt cx="2743200" cy="1030320"/>
          </a:xfrm>
        </p:grpSpPr>
        <p:pic>
          <p:nvPicPr>
            <p:cNvPr id="658" name="TextBox 22" descr=""/>
            <p:cNvPicPr/>
            <p:nvPr/>
          </p:nvPicPr>
          <p:blipFill>
            <a:blip r:embed="rId2"/>
            <a:stretch/>
          </p:blipFill>
          <p:spPr>
            <a:xfrm>
              <a:off x="5632560" y="2541600"/>
              <a:ext cx="27432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5638680" y="2550960"/>
              <a:ext cx="27338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Treatment Deferral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TextBox 24"/>
          <p:cNvGrpSpPr/>
          <p:nvPr/>
        </p:nvGrpSpPr>
        <p:grpSpPr>
          <a:xfrm>
            <a:off x="5937120" y="4541760"/>
            <a:ext cx="2225880" cy="1030320"/>
            <a:chOff x="5937120" y="4541760"/>
            <a:chExt cx="2225880" cy="1030320"/>
          </a:xfrm>
        </p:grpSpPr>
        <p:pic>
          <p:nvPicPr>
            <p:cNvPr id="661" name="TextBox 24" descr=""/>
            <p:cNvPicPr/>
            <p:nvPr/>
          </p:nvPicPr>
          <p:blipFill>
            <a:blip r:embed="rId3"/>
            <a:stretch/>
          </p:blipFill>
          <p:spPr>
            <a:xfrm>
              <a:off x="5937120" y="4541760"/>
              <a:ext cx="2225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5943600" y="4546440"/>
              <a:ext cx="2209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Banked Probation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Text Box 26"/>
          <p:cNvSpPr/>
          <p:nvPr/>
        </p:nvSpPr>
        <p:spPr>
          <a:xfrm>
            <a:off x="2813040" y="4419720"/>
            <a:ext cx="22809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TextBox 26"/>
          <p:cNvGrpSpPr/>
          <p:nvPr/>
        </p:nvGrpSpPr>
        <p:grpSpPr>
          <a:xfrm>
            <a:off x="2816280" y="4541760"/>
            <a:ext cx="2219400" cy="1030320"/>
            <a:chOff x="2816280" y="4541760"/>
            <a:chExt cx="2219400" cy="1030320"/>
          </a:xfrm>
        </p:grpSpPr>
        <p:pic>
          <p:nvPicPr>
            <p:cNvPr id="665" name="TextBox 26" descr=""/>
            <p:cNvPicPr/>
            <p:nvPr/>
          </p:nvPicPr>
          <p:blipFill>
            <a:blip r:embed="rId4"/>
            <a:stretch/>
          </p:blipFill>
          <p:spPr>
            <a:xfrm>
              <a:off x="2816280" y="4541760"/>
              <a:ext cx="22194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2819520" y="4546440"/>
              <a:ext cx="2209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Intensive Probation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26a"/>
                </a:solidFill>
                <a:latin typeface="Arial Black"/>
              </a:rPr>
              <a:t>Treatment Court Case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228600" y="1447920"/>
            <a:ext cx="9067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ly to be in the co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ly to recidivate or fail in treat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re mental illness or substance depend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OT Empirically Relevan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200000"/>
              <a:buFont typeface="Arial"/>
              <a:buChar char="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ug dealing or violence charge / hi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200000"/>
              <a:buFont typeface="Arial"/>
              <a:buChar char="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tivated for treatment; good attitu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200000"/>
              <a:buFont typeface="Arial"/>
              <a:buChar char="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iled treatment or probation previous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200000"/>
              <a:buFont typeface="Arial"/>
              <a:buChar char="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proven nexus between drug use and cr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6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0" y="45720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d9c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158320" y="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763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26a"/>
                </a:solidFill>
                <a:latin typeface="Arial Black"/>
              </a:rPr>
              <a:t>Program Planning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80614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8" name="Chart 7"/>
          <p:cNvGraphicFramePr/>
          <p:nvPr/>
        </p:nvGraphicFramePr>
        <p:xfrm>
          <a:off x="762120" y="1523880"/>
          <a:ext cx="75438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9" name="Char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543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Rectangle 1"/>
          <p:cNvSpPr/>
          <p:nvPr/>
        </p:nvSpPr>
        <p:spPr>
          <a:xfrm>
            <a:off x="3048120" y="533412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6248520" y="533412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3"/>
          <p:cNvSpPr/>
          <p:nvPr/>
        </p:nvSpPr>
        <p:spPr>
          <a:xfrm rot="16200000">
            <a:off x="5479920" y="2131200"/>
            <a:ext cx="850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15 times greater cost benefi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 rot="16200000">
            <a:off x="3544560" y="3370680"/>
            <a:ext cx="197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800" spc="-1" strike="noStrike">
                <a:solidFill>
                  <a:srgbClr val="ffff00"/>
                </a:solidFill>
                <a:latin typeface="Arial"/>
                <a:ea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20:07:17Z</dcterms:created>
  <dc:creator>Robert F Forman</dc:creator>
  <dc:description/>
  <dc:language>en-US</dc:language>
  <cp:lastModifiedBy>pcuser</cp:lastModifiedBy>
  <dcterms:modified xsi:type="dcterms:W3CDTF">2017-10-18T12:37:10Z</dcterms:modified>
  <cp:revision>839</cp:revision>
  <dc:subject/>
  <dc:title>PowerPoint Presentation</dc:title>
</cp:coreProperties>
</file>